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3A0A-068B-47E0-976C-BB1AFF3EB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EE5B-29DA-44BB-A653-F32F1269835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7248-FFF5-4890-9E49-11FD5729EEF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4B1D-6FB2-4344-9BB2-D271CEFD021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3330-7A24-44AC-9317-E35BF3F3BBF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2F3D-D3BF-4E71-AFA5-37D8FBAA94E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F147-C8FA-4380-B616-55FFBBC086E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1070-E967-4921-9271-5B4C36FFE21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AFFA-2A53-4FCA-97C3-03A5EB4DD60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DC58-44B7-4370-82F3-1500F9E7ECC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60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6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04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60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6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3440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0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16720" y="141084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404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60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16720" y="4157280"/>
            <a:ext cx="2433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3440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78320" y="415728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640" y="337680"/>
            <a:ext cx="73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47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8320" y="1410840"/>
            <a:ext cx="368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04720" y="4157280"/>
            <a:ext cx="755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arsonedmeasurement.com/research/faq_1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nationsreportcard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nationsreportcard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youtube.com/watch?v=0NsOEF29mg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NsOEF29mgg" TargetMode="External"/><Relationship Id="rId2" Type="http://schemas.openxmlformats.org/officeDocument/2006/relationships/hyperlink" Target="http://www.youtube.com/watch?v=0NsOEF29mgg" TargetMode="External"/><Relationship Id="rId3" Type="http://schemas.openxmlformats.org/officeDocument/2006/relationships/hyperlink" Target="http://www.youtube.com/watch?v=0NsOEF29mgg" TargetMode="External"/><Relationship Id="rId4" Type="http://schemas.openxmlformats.org/officeDocument/2006/relationships/hyperlink" Target="http://www.pearsonedmeasurement.com/research/faq_1a.htm" TargetMode="External"/><Relationship Id="rId5" Type="http://schemas.openxmlformats.org/officeDocument/2006/relationships/hyperlink" Target="http://www.washingtonpost.com/wp-dyn/content/article/2009/04/28/AR2009042801244.html" TargetMode="External"/><Relationship Id="rId6" Type="http://schemas.openxmlformats.org/officeDocument/2006/relationships/hyperlink" Target="http://www.education-consumers.com/briefs/phelps2.s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8248680" cy="1000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2020"/>
                </a:solidFill>
                <a:latin typeface="Tahoma"/>
              </a:rPr>
              <a:t>Yes! to Standardized Tes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571720" y="4571640"/>
            <a:ext cx="33289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By: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Kim Car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Kelly Castin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Missy Glavey-Labedz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Arial"/>
              </a:rPr>
              <a:t>Sharon Jimenez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417080" cy="649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at are Standardized Test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71400" y="1785960"/>
            <a:ext cx="67690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428840" y="2286000"/>
            <a:ext cx="714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Tahoma"/>
              </a:rPr>
              <a:t>Tests are standardized when they are developed, administered, and scored using established procedures and guidelines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1071720" y="59342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ducational Measurement Group of Pearson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1"/>
              </a:rPr>
              <a:t>http://www.pearsonedmeasurement.com/research/faq_1a.ht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use a standardized te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71400" y="1499760"/>
            <a:ext cx="727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  <a:ea typeface="Tahoma"/>
              </a:rPr>
              <a:t>Validity and reliability – consistency and accurac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Practicalit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less time consuming 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relatively affordable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asier to give.  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asier to grade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 computer tracks the process 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Objectivity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No trying to figure out what is the student trying to say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Instigator of change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It helps us to identify where students are lack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Accountability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udents are expected to maintain high standard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Standardization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udents are exposed to the same concepts,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they work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56840" y="1143000"/>
            <a:ext cx="7559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rmer education secretary Margaret Spellings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 results vindicate former president George W. Bush's signature education initiative, NCLB.”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e are on the right track. It is not an accident. It is by design.  It (current test results) proves the policy principle.”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"Accountability is working.”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85840" y="6334200"/>
            <a:ext cx="85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(Glod,2009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cess in Mathema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Content Placeholder 55" descr="math graph.gif"/>
          <p:cNvPicPr/>
          <p:nvPr/>
        </p:nvPicPr>
        <p:blipFill>
          <a:blip r:embed="rId1"/>
          <a:stretch/>
        </p:blipFill>
        <p:spPr>
          <a:xfrm>
            <a:off x="1523880" y="1981080"/>
            <a:ext cx="7086600" cy="4648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6"/>
          <p:cNvSpPr/>
          <p:nvPr/>
        </p:nvSpPr>
        <p:spPr>
          <a:xfrm flipV="1" rot="10800000">
            <a:off x="2057040" y="1402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rend in NAEP mathematics average scores for 9-, 13-, and 17-year-old stud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0" y="6357960"/>
            <a:ext cx="37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http://nationsreportcard.gov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ccess in Re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rend in NAEP reading average scores for 9-, 13-, and 17-year-old stud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0" name="Picture 3" descr="graph.gif"/>
          <p:cNvPicPr/>
          <p:nvPr/>
        </p:nvPicPr>
        <p:blipFill>
          <a:blip r:embed="rId1"/>
          <a:stretch/>
        </p:blipFill>
        <p:spPr>
          <a:xfrm>
            <a:off x="1371600" y="19810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428760" y="63579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http://nationsreportcard.gov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164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cess of Standardized Testing in F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SuccesswithFCAT.wmv" descr=""/>
          <p:cNvPicPr/>
          <p:nvPr/>
        </p:nvPicPr>
        <p:blipFill>
          <a:blip r:embed="rId1"/>
          <a:stretch/>
        </p:blipFill>
        <p:spPr>
          <a:xfrm>
            <a:off x="1643040" y="1500120"/>
            <a:ext cx="7072200" cy="4357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85840" y="621180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dapted from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ABCs of FCAT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, retrieved September 6, 2009, from </a:t>
            </a:r>
            <a:r>
              <a:rPr b="0" lang="en-US" sz="18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http://www.youtube.com/watch?v=0NsOEF29mg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404720" y="1410840"/>
            <a:ext cx="75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raditional teacher made tests will continue to play an important role in the classroom, while standardized tests will play a vital role in measuring students’ progress, improving instruction, and helping students achieve higher standards.” (Zucker, 2003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344000" cy="508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246c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FERENC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00120" y="1357200"/>
            <a:ext cx="7345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ABCs of FCAT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, retrieved September 6, 2009,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1"/>
              </a:rPr>
              <a:t>http://www.youtube.com/watch?v=0NsOEF29mg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3"/>
              </a:rPr>
              <a:t>E</a:t>
            </a:r>
            <a:r>
              <a:rPr b="0" lang="en-US" sz="1200" spc="-1" strike="noStrike" u="sng">
                <a:solidFill>
                  <a:srgbClr val="4d4d4d"/>
                </a:solidFill>
                <a:uFillTx/>
                <a:latin typeface="Arial"/>
              </a:rPr>
              <a:t>ducational Measurement Group of Pearson, Retrieved September 8, 2009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4"/>
              </a:rPr>
              <a:t>http://www.pearsonedmeasurement.com/research/faq_1a.ht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Glod, Maria. April 29,2009.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Nation's Report Card' Sees Gains in Elementary, Middle Schools</a:t>
            </a:r>
            <a:r>
              <a:rPr b="1" i="1" lang="en-US" sz="1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Washington Post, retrieved September 9, 2009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5"/>
              </a:rPr>
              <a:t>http://www.washingtonpost.com/wp-dyn/content/article/2009/04/28/AR2009042801244.html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Phelps, Richard, Education Consumers Clearinghouse,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Estimating the Costs and Benefits of Educational Testing Programs.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Retrieved September 6, 2009, from </a:t>
            </a:r>
            <a:r>
              <a:rPr b="0" lang="en-US" sz="1200" spc="-1" strike="noStrike" u="sng">
                <a:solidFill>
                  <a:srgbClr val="0766bd"/>
                </a:solidFill>
                <a:uFillTx/>
                <a:latin typeface="Arial"/>
                <a:hlinkClick r:id="rId6"/>
              </a:rPr>
              <a:t>http://www.education-consumers.com/briefs/phelps2.sht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Phelps, R.P. (2008). The role and importance of standardized testing in the world of teaching and training.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Nonpartisan Education Review / Essays, 4(3)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 Retrieved September 8, 2009 from </a:t>
            </a:r>
            <a:r>
              <a:rPr b="0" lang="en-US" sz="1200" spc="-1" strike="noStrike" u="sng">
                <a:solidFill>
                  <a:srgbClr val="4d4d4d"/>
                </a:solidFill>
                <a:uFillTx/>
                <a:latin typeface="Arial"/>
              </a:rPr>
              <a:t>http://www.npe.ednews.org/Review/Essays/v4n3.ht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U.S. Department of Education, Institute of Education Sciences, National Center for Education Statistics, National Assessment of Educational Progress (NAEP), various years, 1990–2007.  Retrieved September 9, 2009, from http://nationsreportcard.gov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Young, Katie.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Standardized Testing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 Retrieved from https://www.msu.edu/~youngka7/testing.htm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Zucker, Sasha, (2003),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Fundamentals of Standard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zed </a:t>
            </a: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Testing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. Retrieved from http://www.pearsonassessments.com/NR/rdonlyres/20DB5E75-059E-4EB7-BFB1-F9C171ABE0C3/0/Fundamentals_of_Standardized_Testing_Final.pdf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4:20Z</dcterms:created>
  <dc:creator>-</dc:creator>
  <dc:description/>
  <dc:language>en-US</dc:language>
  <cp:lastModifiedBy>Eileen Labedz</cp:lastModifiedBy>
  <dcterms:modified xsi:type="dcterms:W3CDTF">2009-09-20T01:25:12Z</dcterms:modified>
  <cp:revision>202</cp:revision>
  <dc:subject/>
  <dc:title>Name of presentation</dc:title>
</cp:coreProperties>
</file>