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8BE6-7377-4986-9DDA-E6B8C07FE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7EBB-0020-4576-9B1E-2F70EB5629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6561-B5B4-4207-BCF8-BC9C26FB0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804D-61CD-4AD2-8C7A-5695FB2D13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C488-FA66-4E98-81EC-C240CB5B7A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26BB-C0D9-4C17-BCCD-A9DD1A4543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0208-4491-4D96-842B-6266F28267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93F-F916-4B81-8C1B-65111658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ABC-452D-4CB1-AAA7-C3453145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EF0-9C70-43CA-86D9-1836EEE2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4A8-8469-4B00-B66A-484D5C5E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20A1-5A3C-4F75-A402-B74D18AD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283D-62E6-4AE5-934D-BCBA0F54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7A6F-ED57-401D-BCC1-E5054AAE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B744-DACC-4E0A-8A89-51020C88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2DAF-B85A-4575-93B8-8EE0AE3B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C305-3370-4899-B1F8-57F47BAB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AAB1-AA82-4F8C-B698-23077EBC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9F7-28CA-4F63-B02E-C4F1F44C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3CC1-12EA-4DE3-8EF8-7EDCB74D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3D9C-6843-429F-9C1D-0485EA4D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0959-2614-41F1-9CD8-7CFD83E1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EE86-3DD1-4425-9B7B-17F708DC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1862-720F-4D1D-9335-383242E8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8B6-C360-4831-8C8C-202FCD8B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993-286A-4AA5-9C35-C1E7EC3D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547-28DC-445B-BA12-88EC2F95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85D-7BD8-49C2-9435-7A5BD3C8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6C1-3697-4039-8A4D-83ED0306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486-44F4-4425-9E9B-B6B8309C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20D-1D6C-489C-9223-62DD2935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BD1E-401E-4913-BBD1-F16FC6EF4B3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4280-84DF-4702-A2EE-21ACCB1FC56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Ranieri\AppData\Local\Microsoft\Windows\Temporary Internet Files\Content.IE5\H7CIP9AE\MCj04417340000[1].png"/>
          <p:cNvPicPr/>
          <p:nvPr/>
        </p:nvPicPr>
        <p:blipFill>
          <a:blip r:embed="rId2"/>
          <a:stretch/>
        </p:blipFill>
        <p:spPr>
          <a:xfrm>
            <a:off x="2590920" y="3581280"/>
            <a:ext cx="3733560" cy="27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s to enhance the students’ interpretative abilities by enabling them to visualize story, characters, events and setting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s the student with a visual guide to understanding and retelling stori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s the student to remember what they have rea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s students’ sense of stor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s can use a story map as a pre-reading strateg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tting: Who, what, when, w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uble: What is the trouble that the main character(s) need to solv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der of Action: What action(s) does the main character(s) take to solve the proble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olution: What was the outcome for each action? How does the main character(s) react and fee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d: What happened in the end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del how to use the story map: read the story aloud and stop at important points pertaining to story compon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sk the students to label the par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nstrate how to write the information on the story map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ve the students copy the information on their own map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uring th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lea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hase: have students read independently and complete their own map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4" descr=""/>
          <p:cNvPicPr/>
          <p:nvPr/>
        </p:nvPicPr>
        <p:blipFill>
          <a:blip r:embed="rId1"/>
          <a:stretch/>
        </p:blipFill>
        <p:spPr>
          <a:xfrm>
            <a:off x="1596960" y="2571840"/>
            <a:ext cx="6108840" cy="3743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286000" y="4572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tory M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1464840" y="15238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Title: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649840" y="152388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Author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: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www.readingrockets.org/strategies/story_ma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forpd.ucf.edu/strategies/stratStoryM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olc.spsd.sk.ca/DE/PD/instr/strats/storymapping/index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47:05Z</dcterms:created>
  <dc:creator>Jessica Ranieri</dc:creator>
  <dc:description/>
  <dc:language>en-US</dc:language>
  <cp:lastModifiedBy>Eileen Labedz</cp:lastModifiedBy>
  <dcterms:modified xsi:type="dcterms:W3CDTF">2010-03-24T17:04:29Z</dcterms:modified>
  <cp:revision>12</cp:revision>
  <dc:subject/>
  <dc:title>Slide 1</dc:title>
</cp:coreProperties>
</file>