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186D-9DBC-426B-804E-92E516EBC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B0B6-4893-40B5-AD1C-586D1DE1F4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8145-AC59-4B20-ABE0-223C9DC104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BCE2-5E5A-4D6B-A2AE-CB7CF22FBD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0F53-FCA2-462F-AC12-A3639D3701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ACD1-C142-45C8-B7FA-E19A2534DE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BCF7-9732-4EDD-B12B-C671A2C31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C95-0B2E-4B66-B7B3-A1829CD5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E50-7B9B-431E-8C40-0FEDA990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A53-C7A6-4B8D-B3B4-6F2EDD10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148-4C68-4109-A140-D8E3C911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1A63-BD13-41C5-9BE9-C85BABB7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7CE9-6840-4C42-A92D-2671AB64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8F26-1E42-4CAE-AF86-11A107E9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0514-5D3B-47D2-B018-76FA4300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2759-1179-42BB-99E2-5B502D3B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39BF-7AFD-42C4-AA9E-6CA4527B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0B43-7D11-463D-9013-B46C2CA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E83-4309-486E-B448-9B51A14B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DB6B-4799-4ECD-9469-B36D02EF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4A9A-A101-4B8D-9FAD-49F266D5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A260-2C6F-466F-989A-6C7D0A0D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B83A-E1C6-4DD6-9670-A8CDEA1B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1A1E-3D6C-4FB5-A37F-A17E9F82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CF0-87F0-4094-884F-C6C33815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910-3B4F-4B95-BF9B-950C4121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7EA-3BDB-4229-B1A9-FA1B5F00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F00-8895-4BA2-963D-15E9847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EB3-196E-412C-B7AC-09A662A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216-C8C0-42E4-B652-ABED120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E8A-55DA-4363-B5F4-7646518E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1670-6229-4D3F-8E3C-5B33F3245A7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295-FCB9-4F31-B3CC-C729EE8C307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Ranieri\AppData\Local\Microsoft\Windows\Temporary Internet Files\Content.IE5\H7CIP9AE\MCj04417340000[1].png"/>
          <p:cNvPicPr/>
          <p:nvPr/>
        </p:nvPicPr>
        <p:blipFill>
          <a:blip r:embed="rId2"/>
          <a:stretch/>
        </p:blipFill>
        <p:spPr>
          <a:xfrm>
            <a:off x="2590920" y="3581280"/>
            <a:ext cx="373356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s to enhance the students’ interpretative abilities by enabling them to visualize story, characters, events and sett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s the student with a visual guide to understanding and retelling stori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s the student to remember what they have rea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s students’ sense of stor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s can use a story map as a pre-reading strateg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tting: Who, what, when, w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uble: What is the trouble that the main character(s) need to sol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der of Action: What action(s) does the main character(s) take to solve the proble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olution: What was the outcome for each action? How does the main character(s) react and fee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d: What happened in the end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del how to use the story map: read the story aloud and stop at important points pertaining to story compon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sk the students to label the par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nstrate how to write the information on the story map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ve the students copy the information on their own map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uring th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lea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hase: have students read independently and complete their own map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4" descr=""/>
          <p:cNvPicPr/>
          <p:nvPr/>
        </p:nvPicPr>
        <p:blipFill>
          <a:blip r:embed="rId1"/>
          <a:stretch/>
        </p:blipFill>
        <p:spPr>
          <a:xfrm>
            <a:off x="1596960" y="2571840"/>
            <a:ext cx="6108840" cy="3743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286000" y="4572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tory M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464840" y="15238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itle: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649840" y="152388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utho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: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www.readingrockets.org/strategies/story_ma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forpd.ucf.edu/strategies/stratStoryM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olc.spsd.sk.ca/DE/PD/instr/strats/storymapping/index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47:05Z</dcterms:created>
  <dc:creator>Jessica Ranieri</dc:creator>
  <dc:description/>
  <dc:language>en-US</dc:language>
  <cp:lastModifiedBy>Eileen Labedz</cp:lastModifiedBy>
  <dcterms:modified xsi:type="dcterms:W3CDTF">2010-03-24T17:04:29Z</dcterms:modified>
  <cp:revision>12</cp:revision>
  <dc:subject/>
  <dc:title>Slide 1</dc:title>
</cp:coreProperties>
</file>