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BD94-8987-4362-8AFA-D59D2A2E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26B-A2CB-455C-BF89-DC5A9D552A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EC98-A2F9-4BAA-A79A-5B00010C9A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91D2-EAB6-442F-BF46-8265A68135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BC1D-75E8-4120-8307-0054B8ED4A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64E2-E93C-4F14-8796-3F9D0A535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61C3-CE7B-41DC-9D34-833D3CCE7B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AF9-7975-406D-A974-23E2B4C7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00C-CC99-492B-A9BA-FD19D24C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0CA-8958-4DB2-B98F-1D9C74E4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FB9-C31C-4CEA-8E82-1EAB9542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BB0E-142D-4B7F-9B11-AFD43094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5220-1099-4B22-BB60-5F7EF958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9BB0-630B-4E69-B0AA-A8F956E0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7EC1-AB1E-4073-954A-4283A256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94D3-AF44-4662-A5C4-6D7EAAA1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A408-17EB-4737-8026-36A3EDB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F348-FCCF-4BA3-8C17-4B0956C8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7B3-E24D-40E9-BDD7-4F798849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1A36-6DF7-4B6C-9319-A3A94704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2F54-461C-4872-AE0E-ECC71EA9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4EC4-567D-4EFC-8521-B0CB286F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CBA-123C-4F5B-91C7-16B889E1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96C6-F505-4407-9E21-1C152213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DEC-C10D-4E0B-8E2B-4193F594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F68-CF1A-40B6-A334-9D94F969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D89-9F2B-4476-86A1-5AD76DC8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1B7-1D50-447D-801D-3921D4AF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0DD-F992-4F04-BAA6-35E908D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81E-30B2-4E56-8D72-B93B526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DD0-E8BF-4B1A-A2E5-A47784FF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2CEC-3185-44C2-BFA1-C58F1F31AEB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F805-B2AA-447A-8FFB-64518E81374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Ranieri\AppData\Local\Microsoft\Windows\Temporary Internet Files\Content.IE5\H7CIP9AE\MCj04417340000[1].png"/>
          <p:cNvPicPr/>
          <p:nvPr/>
        </p:nvPicPr>
        <p:blipFill>
          <a:blip r:embed="rId2"/>
          <a:stretch/>
        </p:blipFill>
        <p:spPr>
          <a:xfrm>
            <a:off x="2590920" y="3581280"/>
            <a:ext cx="373356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s to enhance the students’ interpretative abilities by enabling them to visualize story, characters, events and sett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s the student with a visual guide to understanding and retelling stori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s the student to remember what they have rea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s students’ sense of stor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s can use a story map as a pre-reading strateg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tting: Who, what, when, w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uble: What is the trouble that the main character(s) need to sol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der of Action: What action(s) does the main character(s) take to solve the proble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olution: What was the outcome for each action? How does the main character(s) react and fee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d: What happened in the end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del how to use the story map: read the story aloud and stop at important points pertaining to story compon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sk the students to label the par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nstrate how to write the information on the story map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ve the students copy the information on their own map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uring th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lea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hase: have students read independently and complete their own map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4" descr=""/>
          <p:cNvPicPr/>
          <p:nvPr/>
        </p:nvPicPr>
        <p:blipFill>
          <a:blip r:embed="rId1"/>
          <a:stretch/>
        </p:blipFill>
        <p:spPr>
          <a:xfrm>
            <a:off x="1596960" y="2571840"/>
            <a:ext cx="6108840" cy="3743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286000" y="4572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tory M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464840" y="15238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itle: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649840" y="152388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utho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: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www.readingrockets.org/strategies/story_ma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forpd.ucf.edu/strategies/stratStoryM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olc.spsd.sk.ca/DE/PD/instr/strats/storymapping/index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47:05Z</dcterms:created>
  <dc:creator>Jessica Ranieri</dc:creator>
  <dc:description/>
  <dc:language>en-US</dc:language>
  <cp:lastModifiedBy>Eileen Labedz</cp:lastModifiedBy>
  <dcterms:modified xsi:type="dcterms:W3CDTF">2010-03-24T17:04:29Z</dcterms:modified>
  <cp:revision>12</cp:revision>
  <dc:subject/>
  <dc:title>Slide 1</dc:title>
</cp:coreProperties>
</file>