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4886-081C-4798-B40D-D5AE1E37F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3316-4ADE-45EB-BCC7-9D6D3A807E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89EE-58C8-4D97-B7B3-7B4BFE7116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C420-BA43-4229-B192-74F495F1A6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F2E5-8B70-4BED-95B8-6B076C39ED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F80C-A895-4078-8C71-87017CA15C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38CD-D4A8-4B81-AEA6-0A4266397C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4ED-981A-4E69-BB3C-FEAFE1D3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14A-8BCC-4715-A028-2D116E9B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B15-CA73-492F-9282-BD61C727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721-A6BC-4BCB-8BCC-10145E2C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8606-F4D5-4420-9DD3-97DC2471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BA27-990D-467C-BF3B-1FB852DC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D2F7-1D2F-424C-8901-F84E9B71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1BB4-5BAF-4754-9256-12BA05C2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E0E3-8C39-4091-9ECA-9BD11658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6B64-339A-4BBD-9461-309CD645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9F49-DC97-41F2-8A0E-6A810C23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0CD-E2AD-4910-A1E9-BB9669CE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326D-66B4-4589-A873-71DFAC2E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0026-20FD-4F0D-95F8-BF0F5A70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10C0-7A49-459E-8CDA-204157ED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EB21-1514-4D07-9A30-3E3E5012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B969-E8DA-4678-8EFA-3117F9A4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3A0-FF4C-4ADF-A834-C42E1B04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DDC-5C72-4862-A419-5B727037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D11-347E-4A95-84FD-4C639448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0C7-18D5-45A9-981C-3EFA7068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4D7-3AB9-4E4A-8E00-0ECAA190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E6C-291C-4ED9-A3F5-20E7EB1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713-C57C-438A-A573-4F380970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C895-5A9C-4486-8709-963E66CF497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B6DA-75D6-43BA-BB76-3A89C87C856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Ranieri\AppData\Local\Microsoft\Windows\Temporary Internet Files\Content.IE5\H7CIP9AE\MCj04417340000[1].png"/>
          <p:cNvPicPr/>
          <p:nvPr/>
        </p:nvPicPr>
        <p:blipFill>
          <a:blip r:embed="rId2"/>
          <a:stretch/>
        </p:blipFill>
        <p:spPr>
          <a:xfrm>
            <a:off x="2590920" y="3581280"/>
            <a:ext cx="3733560" cy="27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s to enhance the students’ interpretative abilities by enabling them to visualize story, characters, events and setting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s the student with a visual guide to understanding and retelling stori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s the student to remember what they have rea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s students’ sense of stor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udents can use a story map as a pre-reading strateg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tting: Who, what, when, w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uble: What is the trouble that the main character(s) need to solv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der of Action: What action(s) does the main character(s) take to solve the proble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olution: What was the outcome for each action? How does the main character(s) react and feel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d: What happened in the end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del how to use the story map: read the story aloud and stop at important points pertaining to story compon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sk the students to label the par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monstrate how to write the information on the story map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ve the students copy the information on their own map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uring th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lea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hase: have students read independently and complete their own map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Diagram 4" descr=""/>
          <p:cNvPicPr/>
          <p:nvPr/>
        </p:nvPicPr>
        <p:blipFill>
          <a:blip r:embed="rId1"/>
          <a:stretch/>
        </p:blipFill>
        <p:spPr>
          <a:xfrm>
            <a:off x="1596960" y="2571840"/>
            <a:ext cx="6108840" cy="3743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286000" y="4572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tory M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1464840" y="15238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Title: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649840" y="152388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Author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: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www.readingrockets.org/strategies/story_ma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forpd.ucf.edu/strategies/stratStoryM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olc.spsd.sk.ca/DE/PD/instr/strats/storymapping/index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47:05Z</dcterms:created>
  <dc:creator>Jessica Ranieri</dc:creator>
  <dc:description/>
  <dc:language>en-US</dc:language>
  <cp:lastModifiedBy>Eileen Labedz</cp:lastModifiedBy>
  <dcterms:modified xsi:type="dcterms:W3CDTF">2010-03-24T17:04:29Z</dcterms:modified>
  <cp:revision>12</cp:revision>
  <dc:subject/>
  <dc:title>Slide 1</dc:title>
</cp:coreProperties>
</file>